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001-2B90-49C7-AF28-177E99A9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E4C-71CB-49A6-A005-818D5F00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18C-4F8B-44D6-999E-E645690A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ED4-52EE-4EE1-A69F-F92FE27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D9C-F1FA-4B73-A65B-DB38D98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774-75A4-4E58-AE21-B875D78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057-80AD-440F-8D37-25B84FD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D37-937A-4600-83D4-E4689A8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5D8-D0A7-4D65-AEF2-211815F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008-05D5-4ADA-BAAB-C34E287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BC3-7981-4DF2-A329-FA826337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56A-DEE1-41B9-B85B-11D4F02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37E75-531E-4878-8275-F018928CF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06432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60760" y="3970440"/>
            <a:ext cx="64832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"/>
          <p:cNvSpPr/>
          <p:nvPr/>
        </p:nvSpPr>
        <p:spPr>
          <a:xfrm>
            <a:off x="1981080" y="3881520"/>
            <a:ext cx="69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unch of flower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束花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ower bed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花坛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967040" y="2895480"/>
            <a:ext cx="48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aʊ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971640" y="134784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lower /ﬂaʊ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花；花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971640" y="401004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167840" y="3144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1163160" y="236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942840" y="4800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音异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965320" y="481320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ou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1979640" y="21337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lowers are very beautiful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花很美丽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3166920" y="53150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wer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塔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w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942840" y="5551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2971800" y="425592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459160" y="2228760"/>
            <a:ext cx="33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ɔ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3005280" y="147960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ter /wɔːt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浇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444680" y="435456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1609200" y="2505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1444680" y="313992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65200" y="496584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成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060720" y="487836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row cold water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泼冷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wa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水路；乘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2530440" y="3036960"/>
            <a:ext cx="34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water flower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浇花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"/>
          <p:cNvGrpSpPr/>
          <p:nvPr/>
        </p:nvGrpSpPr>
        <p:grpSpPr>
          <a:xfrm>
            <a:off x="357120" y="1641600"/>
            <a:ext cx="2737080" cy="666720"/>
            <a:chOff x="357120" y="1641600"/>
            <a:chExt cx="2737080" cy="666720"/>
          </a:xfrm>
        </p:grpSpPr>
        <p:sp>
          <p:nvSpPr>
            <p:cNvPr id="174" name="圆角矩形 24"/>
            <p:cNvSpPr/>
            <p:nvPr/>
          </p:nvSpPr>
          <p:spPr>
            <a:xfrm>
              <a:off x="1119240" y="1754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9"/>
            <p:cNvSpPr/>
            <p:nvPr/>
          </p:nvSpPr>
          <p:spPr>
            <a:xfrm>
              <a:off x="1388880" y="1724040"/>
              <a:ext cx="17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57120" y="16416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2668680" y="1459080"/>
            <a:ext cx="39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ok /kʊ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烹饪；烹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346480" y="2365200"/>
            <a:ext cx="498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mum likes to cook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妈妈喜欢为我做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1579680" y="25700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1414440" y="396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405160" y="3755880"/>
            <a:ext cx="607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 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午饭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晚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428840" y="5483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2811600" y="53928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3625920" y="45306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凉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417680" y="4776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4"/>
          <p:cNvGrpSpPr/>
          <p:nvPr/>
        </p:nvGrpSpPr>
        <p:grpSpPr>
          <a:xfrm>
            <a:off x="401760" y="1630440"/>
            <a:ext cx="2736720" cy="666720"/>
            <a:chOff x="401760" y="1630440"/>
            <a:chExt cx="2736720" cy="666720"/>
          </a:xfrm>
        </p:grpSpPr>
        <p:sp>
          <p:nvSpPr>
            <p:cNvPr id="190" name="圆角矩形 26"/>
            <p:cNvSpPr/>
            <p:nvPr/>
          </p:nvSpPr>
          <p:spPr>
            <a:xfrm>
              <a:off x="1163520" y="1743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9"/>
            <p:cNvSpPr/>
            <p:nvPr/>
          </p:nvSpPr>
          <p:spPr>
            <a:xfrm>
              <a:off x="1433520" y="17128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01760" y="16304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706400" y="3292560"/>
            <a:ext cx="34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ook is co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位厨师正在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2"/>
          <p:cNvGrpSpPr/>
          <p:nvPr/>
        </p:nvGrpSpPr>
        <p:grpSpPr>
          <a:xfrm>
            <a:off x="1773360" y="2784600"/>
            <a:ext cx="2403360" cy="459720"/>
            <a:chOff x="1773360" y="2784600"/>
            <a:chExt cx="2403360" cy="459720"/>
          </a:xfrm>
        </p:grpSpPr>
        <p:sp>
          <p:nvSpPr>
            <p:cNvPr id="198" name="TextBox 10"/>
            <p:cNvSpPr/>
            <p:nvPr/>
          </p:nvSpPr>
          <p:spPr>
            <a:xfrm>
              <a:off x="2089080" y="27846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773360" y="28321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2"/>
          <p:cNvSpPr/>
          <p:nvPr/>
        </p:nvSpPr>
        <p:spPr>
          <a:xfrm>
            <a:off x="1739880" y="20750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意义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3452760" y="193212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厨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3" descr=""/>
          <p:cNvPicPr/>
          <p:nvPr/>
        </p:nvPicPr>
        <p:blipFill>
          <a:blip r:embed="rId3"/>
          <a:stretch/>
        </p:blipFill>
        <p:spPr>
          <a:xfrm>
            <a:off x="5416560" y="2919240"/>
            <a:ext cx="3219480" cy="29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1001880" y="2284560"/>
            <a:ext cx="76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ing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种动词短语类型，表示“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类似的动词短语还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2757600" y="1463760"/>
            <a:ext cx="44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o shopping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去购物；去买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119160" y="1628640"/>
            <a:ext cx="2736720" cy="666720"/>
            <a:chOff x="119160" y="1628640"/>
            <a:chExt cx="2736720" cy="666720"/>
          </a:xfrm>
        </p:grpSpPr>
        <p:sp>
          <p:nvSpPr>
            <p:cNvPr id="209" name="圆角矩形 24"/>
            <p:cNvSpPr/>
            <p:nvPr/>
          </p:nvSpPr>
          <p:spPr>
            <a:xfrm>
              <a:off x="880920" y="1741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19"/>
            <p:cNvSpPr/>
            <p:nvPr/>
          </p:nvSpPr>
          <p:spPr>
            <a:xfrm>
              <a:off x="1150920" y="17110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19160" y="16286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7027920" y="1636560"/>
            <a:ext cx="114624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406520" y="3819600"/>
          <a:ext cx="6051600" cy="2214360"/>
        </p:xfrm>
        <a:graphic>
          <a:graphicData uri="http://schemas.openxmlformats.org/drawingml/2006/table">
            <a:tbl>
              <a:tblPr/>
              <a:tblGrid>
                <a:gridCol w="3025800"/>
                <a:gridCol w="3025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ish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钓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kat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滑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ki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滑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hik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徒步旅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hunt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打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wimming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游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961920" y="2232000"/>
            <a:ext cx="9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1955880" y="1995480"/>
            <a:ext cx="497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brother likes to go fishing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的哥哥喜欢去钓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016000" y="3544920"/>
            <a:ext cx="668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dad usually goes _____ on weekend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周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wim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wi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w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6"/>
          <p:cNvGrpSpPr/>
          <p:nvPr/>
        </p:nvGrpSpPr>
        <p:grpSpPr>
          <a:xfrm>
            <a:off x="712800" y="3784680"/>
            <a:ext cx="1287360" cy="459720"/>
            <a:chOff x="712800" y="3784680"/>
            <a:chExt cx="1287360" cy="459720"/>
          </a:xfrm>
        </p:grpSpPr>
        <p:sp>
          <p:nvSpPr>
            <p:cNvPr id="221" name="TextBox 3"/>
            <p:cNvSpPr/>
            <p:nvPr/>
          </p:nvSpPr>
          <p:spPr>
            <a:xfrm>
              <a:off x="1008360" y="37846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12800" y="381132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TextBox 19"/>
          <p:cNvSpPr/>
          <p:nvPr/>
        </p:nvSpPr>
        <p:spPr>
          <a:xfrm>
            <a:off x="5024520" y="3808440"/>
            <a:ext cx="51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2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19" descr="C:\Users\john\Desktop\I)H@F25_I1N)LEC7WOETZ`H.png"/>
          <p:cNvPicPr/>
          <p:nvPr/>
        </p:nvPicPr>
        <p:blipFill>
          <a:blip r:embed="rId4"/>
          <a:stretch/>
        </p:blipFill>
        <p:spPr>
          <a:xfrm>
            <a:off x="1400040" y="1596960"/>
            <a:ext cx="6526440" cy="30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446120" y="4826160"/>
          <a:ext cx="6299280" cy="1554120"/>
        </p:xfrm>
        <a:graphic>
          <a:graphicData uri="http://schemas.openxmlformats.org/drawingml/2006/table">
            <a:tbl>
              <a:tblPr/>
              <a:tblGrid>
                <a:gridCol w="62992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 for a walk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book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f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 flower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ch TV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230" name="矩形 2"/>
          <p:cNvSpPr/>
          <p:nvPr/>
        </p:nvSpPr>
        <p:spPr>
          <a:xfrm>
            <a:off x="1208160" y="933480"/>
            <a:ext cx="24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3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文本框 8" descr=""/>
          <p:cNvPicPr/>
          <p:nvPr/>
        </p:nvPicPr>
        <p:blipFill>
          <a:blip r:embed="rId3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sp>
        <p:nvSpPr>
          <p:cNvPr id="235" name="矩形 3"/>
          <p:cNvSpPr/>
          <p:nvPr/>
        </p:nvSpPr>
        <p:spPr>
          <a:xfrm>
            <a:off x="636480" y="16304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likes to plant flowers. She likes to water flowers. 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1251000" y="1565280"/>
            <a:ext cx="67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What ____ your parents ____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s       B. 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      C. 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 like to go _____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                    B. for              C.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3298680" y="4022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"/>
          <p:cNvSpPr/>
          <p:nvPr/>
        </p:nvSpPr>
        <p:spPr>
          <a:xfrm>
            <a:off x="2545200" y="25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579680" y="1405080"/>
            <a:ext cx="5930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将短语写在相应的图片下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1962000" y="5648400"/>
            <a:ext cx="56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                         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4"/>
          <p:cNvGrpSpPr/>
          <p:nvPr/>
        </p:nvGrpSpPr>
        <p:grpSpPr>
          <a:xfrm>
            <a:off x="7090920" y="1246320"/>
            <a:ext cx="1710360" cy="368280"/>
            <a:chOff x="7090920" y="1246320"/>
            <a:chExt cx="1710360" cy="368280"/>
          </a:xfrm>
        </p:grpSpPr>
        <p:sp>
          <p:nvSpPr>
            <p:cNvPr id="247" name="矩形 25"/>
            <p:cNvSpPr/>
            <p:nvPr/>
          </p:nvSpPr>
          <p:spPr>
            <a:xfrm>
              <a:off x="7090920" y="126360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7"/>
            <p:cNvSpPr/>
            <p:nvPr/>
          </p:nvSpPr>
          <p:spPr>
            <a:xfrm>
              <a:off x="7147800" y="1246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1712880" y="2162160"/>
          <a:ext cx="5270400" cy="1736640"/>
        </p:xfrm>
        <a:graphic>
          <a:graphicData uri="http://schemas.openxmlformats.org/drawingml/2006/table">
            <a:tbl>
              <a:tblPr/>
              <a:tblGrid>
                <a:gridCol w="527040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er flowers                    read a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or a walk                     plant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shopping                       cook me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1" descr=""/>
          <p:cNvPicPr/>
          <p:nvPr/>
        </p:nvPicPr>
        <p:blipFill>
          <a:blip r:embed="rId2"/>
          <a:stretch/>
        </p:blipFill>
        <p:spPr>
          <a:xfrm>
            <a:off x="4948200" y="3997440"/>
            <a:ext cx="1990800" cy="1380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"/>
          <p:cNvPicPr/>
          <p:nvPr/>
        </p:nvPicPr>
        <p:blipFill>
          <a:blip r:embed="rId3"/>
          <a:stretch/>
        </p:blipFill>
        <p:spPr>
          <a:xfrm>
            <a:off x="2104920" y="3968640"/>
            <a:ext cx="1467000" cy="1409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5342040" y="552780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er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046240" y="5526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1712160" y="474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4615200" y="4687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11560" y="5051520"/>
            <a:ext cx="49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like to read English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C:\Users\john\Desktop\123.jpg"/>
          <p:cNvPicPr/>
          <p:nvPr/>
        </p:nvPicPr>
        <p:blipFill>
          <a:blip r:embed="rId2"/>
          <a:stretch/>
        </p:blipFill>
        <p:spPr>
          <a:xfrm>
            <a:off x="603360" y="1579680"/>
            <a:ext cx="3986280" cy="287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Users\john\Desktop\1234.jpg"/>
          <p:cNvPicPr/>
          <p:nvPr/>
        </p:nvPicPr>
        <p:blipFill>
          <a:blip r:embed="rId3"/>
          <a:stretch/>
        </p:blipFill>
        <p:spPr>
          <a:xfrm>
            <a:off x="4773600" y="1409760"/>
            <a:ext cx="388764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4"/>
          <p:cNvGrpSpPr/>
          <p:nvPr/>
        </p:nvGrpSpPr>
        <p:grpSpPr>
          <a:xfrm>
            <a:off x="7090920" y="1246320"/>
            <a:ext cx="1710360" cy="368280"/>
            <a:chOff x="7090920" y="1246320"/>
            <a:chExt cx="1710360" cy="368280"/>
          </a:xfrm>
        </p:grpSpPr>
        <p:sp>
          <p:nvSpPr>
            <p:cNvPr id="259" name="矩形 25"/>
            <p:cNvSpPr/>
            <p:nvPr/>
          </p:nvSpPr>
          <p:spPr>
            <a:xfrm>
              <a:off x="7090920" y="126360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7"/>
            <p:cNvSpPr/>
            <p:nvPr/>
          </p:nvSpPr>
          <p:spPr>
            <a:xfrm>
              <a:off x="7147800" y="1246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989000" y="2139840"/>
            <a:ext cx="1622520" cy="2092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3"/>
          <a:stretch/>
        </p:blipFill>
        <p:spPr>
          <a:xfrm>
            <a:off x="5308560" y="2306520"/>
            <a:ext cx="1963800" cy="192564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1463040" y="3079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4803120" y="3057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93960" y="4614840"/>
            <a:ext cx="56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                             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5460840" y="44798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ok m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905120" y="45100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nt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61920" y="2782800"/>
            <a:ext cx="806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  plant flower  water 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flowers   go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he/she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father likes to go for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7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7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824120" y="272880"/>
            <a:ext cx="6703920" cy="58428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137280" y="5148360"/>
            <a:ext cx="30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my uncle Dachao. He likes to work on his 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7"/>
          <a:stretch/>
        </p:blipFill>
        <p:spPr>
          <a:xfrm>
            <a:off x="1150920" y="1120680"/>
            <a:ext cx="1820880" cy="148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8"/>
          <a:stretch/>
        </p:blipFill>
        <p:spPr>
          <a:xfrm>
            <a:off x="3813120" y="110808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/>
          <p:cNvPicPr/>
          <p:nvPr/>
        </p:nvPicPr>
        <p:blipFill>
          <a:blip r:embed="rId9"/>
          <a:stretch/>
        </p:blipFill>
        <p:spPr>
          <a:xfrm>
            <a:off x="6245280" y="1131840"/>
            <a:ext cx="176688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10"/>
          <a:stretch/>
        </p:blipFill>
        <p:spPr>
          <a:xfrm>
            <a:off x="1019160" y="3884760"/>
            <a:ext cx="2102040" cy="128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11"/>
          <a:stretch/>
        </p:blipFill>
        <p:spPr>
          <a:xfrm>
            <a:off x="3726000" y="3708360"/>
            <a:ext cx="1782720" cy="14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"/>
          <p:cNvPicPr/>
          <p:nvPr/>
        </p:nvPicPr>
        <p:blipFill>
          <a:blip r:embed="rId12"/>
          <a:stretch/>
        </p:blipFill>
        <p:spPr>
          <a:xfrm>
            <a:off x="6388200" y="3675240"/>
            <a:ext cx="1751040" cy="143316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689040" y="2532240"/>
            <a:ext cx="28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grandfather likes to go for a walk. I like to go for a walk with my grandfa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3548160" y="2627280"/>
            <a:ext cx="269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grandmother likes to plant flowers. Jing likes to water flo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6157800" y="2579760"/>
            <a:ext cx="250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father likes to cook. I like to help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00000" y="51260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mother likes to go sho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251160" y="5159520"/>
            <a:ext cx="29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my aunt Meiping. She likes to read boo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7"/>
          <p:cNvSpPr/>
          <p:nvPr/>
        </p:nvSpPr>
        <p:spPr>
          <a:xfrm>
            <a:off x="2948040" y="1479600"/>
            <a:ext cx="38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he/she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8"/>
          <p:cNvSpPr/>
          <p:nvPr/>
        </p:nvSpPr>
        <p:spPr>
          <a:xfrm>
            <a:off x="1076400" y="16984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9"/>
          <p:cNvSpPr/>
          <p:nvPr/>
        </p:nvSpPr>
        <p:spPr>
          <a:xfrm>
            <a:off x="1357200" y="167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book.gif"/>
          <p:cNvPicPr/>
          <p:nvPr/>
        </p:nvPicPr>
        <p:blipFill>
          <a:blip r:embed="rId2"/>
          <a:stretch/>
        </p:blipFill>
        <p:spPr>
          <a:xfrm>
            <a:off x="304920" y="1620720"/>
            <a:ext cx="10872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3"/>
          <a:stretch/>
        </p:blipFill>
        <p:spPr>
          <a:xfrm>
            <a:off x="6821640" y="1593720"/>
            <a:ext cx="1145880" cy="65880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1412280" y="33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38480" y="3117960"/>
            <a:ext cx="59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特殊疑问句，用来询问“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喜欢做什么？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502640" y="503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子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30680" y="4800600"/>
            <a:ext cx="487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do/does + sb. + like to do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827360" y="1897200"/>
            <a:ext cx="474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they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Li Ming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李明喜欢做什么？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947160" y="213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7"/>
          <p:cNvSpPr/>
          <p:nvPr/>
        </p:nvSpPr>
        <p:spPr>
          <a:xfrm>
            <a:off x="2868480" y="1593720"/>
            <a:ext cx="51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y grandfather likes to go for a wal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爷爷喜欢去散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8"/>
          <p:cNvSpPr/>
          <p:nvPr/>
        </p:nvSpPr>
        <p:spPr>
          <a:xfrm>
            <a:off x="95724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1227240" y="1682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2"/>
          <a:stretch/>
        </p:blipFill>
        <p:spPr>
          <a:xfrm>
            <a:off x="6751800" y="207972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" descr="book.gif"/>
          <p:cNvPicPr/>
          <p:nvPr/>
        </p:nvPicPr>
        <p:blipFill>
          <a:blip r:embed="rId3"/>
          <a:stretch/>
        </p:blipFill>
        <p:spPr>
          <a:xfrm>
            <a:off x="19512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219320" y="41022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290680" y="4006800"/>
            <a:ext cx="50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read 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读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s brother likes to play football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弟弟喜欢踢足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111320" y="2793960"/>
            <a:ext cx="72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子结构及含义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b. like/likes to do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句式意为“某人喜欢做的某事。”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6"/>
          <p:cNvGrpSpPr/>
          <p:nvPr/>
        </p:nvGrpSpPr>
        <p:grpSpPr>
          <a:xfrm>
            <a:off x="1147680" y="2259000"/>
            <a:ext cx="1287720" cy="459720"/>
            <a:chOff x="1147680" y="2259000"/>
            <a:chExt cx="1287720" cy="459720"/>
          </a:xfrm>
        </p:grpSpPr>
        <p:sp>
          <p:nvSpPr>
            <p:cNvPr id="116" name="TextBox 3"/>
            <p:cNvSpPr/>
            <p:nvPr/>
          </p:nvSpPr>
          <p:spPr>
            <a:xfrm>
              <a:off x="1443240" y="2259000"/>
              <a:ext cx="9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147680" y="2285640"/>
              <a:ext cx="324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24"/>
          <p:cNvSpPr/>
          <p:nvPr/>
        </p:nvSpPr>
        <p:spPr>
          <a:xfrm>
            <a:off x="2387520" y="201456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Li _____(like) to go to the park with his 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3433680" y="2982960"/>
            <a:ext cx="7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406600" y="4529160"/>
            <a:ext cx="57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o go for a walk with my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和我的父母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289240" y="2238480"/>
            <a:ext cx="457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riend likes to go for a wal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朋友喜欢去散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974880" y="171612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lk /wɔ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amp;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步行；走；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339920" y="4775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87160" y="247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1330200" y="402732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2401920" y="3787920"/>
            <a:ext cx="57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for a walk = take/have a wal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2776680" y="1544760"/>
            <a:ext cx="34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lant flowers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种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8"/>
          <p:cNvSpPr/>
          <p:nvPr/>
        </p:nvSpPr>
        <p:spPr>
          <a:xfrm>
            <a:off x="851040" y="1666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1109520" y="1655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book.gif"/>
          <p:cNvPicPr/>
          <p:nvPr/>
        </p:nvPicPr>
        <p:blipFill>
          <a:blip r:embed="rId2"/>
          <a:stretch/>
        </p:blipFill>
        <p:spPr>
          <a:xfrm>
            <a:off x="49320" y="15526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166760" y="202392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lant /plɑːn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种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127240" y="26240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plant vegetable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种植蔬菜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359720" y="28288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109520" y="4205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100240" y="3951360"/>
            <a:ext cx="60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flower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花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vegetabl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菜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155600" y="5551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2876400" y="542916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t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352680" y="4599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划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144440" y="484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"/>
          <p:cNvPicPr/>
          <p:nvPr/>
        </p:nvPicPr>
        <p:blipFill>
          <a:blip r:embed="rId3"/>
          <a:stretch/>
        </p:blipFill>
        <p:spPr>
          <a:xfrm>
            <a:off x="7048440" y="1814400"/>
            <a:ext cx="117792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6:24Z</dcterms:modified>
  <cp:revision>6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